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251-E323-4341-9CCD-F78F4CA8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76720" y="469944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3FE-4A98-4BDF-8923-0DCA5D75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4148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71F-666E-4A91-8C7D-C222799D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108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508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7672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7108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508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758-F50B-4A4E-89AD-60DE451B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D962-58A2-4C70-AF47-A09C60EB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EE6D-D560-4CF9-8763-F05984AE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1182-C599-49A7-8BD6-2FB0858E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CE01-DBFB-4597-AA3B-674C1015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8313-C268-4685-8582-B52BCA9D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F951-C2A0-4380-91A0-1B118DC2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6D7C-0F41-4D0F-99E4-56F60AE0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3E0-5F12-4564-9B73-DA23A419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4148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BD8E-6E73-4A07-B872-A694B9B5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51E2-9883-41CC-8C42-9F5F6221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76720" y="469944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1C92-CA88-44A0-93F3-5B91E6BE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4148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EEAC-4087-4369-9542-A239E9E9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108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5080" y="350532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7672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77108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5080" y="4699440"/>
            <a:ext cx="142272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ACD6-A994-4230-8308-B0C0E0BF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BEA-4E32-43B8-B081-D4E3693F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2BD-EFF3-4348-97B0-6778B420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66A-588D-4A2D-8E6B-E5B686B2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6551-AD07-4362-9A1C-E0D666F1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803-66BD-495A-B13D-A9410976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41480" y="469944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397-C876-4A06-B569-FB600F8A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7672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1480" y="3505320"/>
            <a:ext cx="215640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76720" y="4699440"/>
            <a:ext cx="4419360" cy="10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49F-A5D8-4111-BC3D-34244E1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50B2-D739-42A7-92A9-0F8578045B7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831E-2B73-43CF-8C68-95D02183D8A6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eated By Tom Palumb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 The Catapult Learning Se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TC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September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back in school in my favorite pla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October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scary drawings mark my fac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November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a turkey we will all e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December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waiting for that holiday tre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Januar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a heavy snow has me asking for mor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Februar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a funny Valentine arrives at my do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March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the wind has such a terrible bi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April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Warm rain is a welcome deligh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Ma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a fancy parade with a drumm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Jun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happy kids getting ready for summ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July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fireworks lighting the night sk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Year Full Of Rhym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520" y="2057400"/>
            <a:ext cx="6172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August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…a new bathing suit I have to bu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8:12:14Z</dcterms:created>
  <dc:creator>Carol Kane</dc:creator>
  <dc:description/>
  <dc:language>en-US</dc:language>
  <cp:lastModifiedBy>Tom Palumbo</cp:lastModifiedBy>
  <dcterms:modified xsi:type="dcterms:W3CDTF">2009-02-26T19:29:44Z</dcterms:modified>
  <cp:revision>5</cp:revision>
  <dc:subject/>
  <dc:title>A Year Full Of Rhymes</dc:title>
</cp:coreProperties>
</file>